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40D-D268-4B4C-98DF-5355DAD6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202-ABF4-48B3-B151-B7E987C3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8E3-7937-41B8-8690-0289480A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20C-A4F4-4FE5-BA47-999A7B34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E6D-3F74-4A8C-9C33-61ADAAB7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786-6DEA-4455-827C-553AB23F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ABC-833F-4B9A-9254-9865EEF6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203-595C-476B-B79D-1E903FC2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209-D6A3-44A3-8E28-0618F904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CC7-0CA7-49E3-82A6-02AF541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314-D884-48BF-BF11-469873F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A4E-B33A-480B-AA9D-BAEADFF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88E-BBCE-4EE3-9913-1A8FF1009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974960" y="927000"/>
            <a:ext cx="529740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755640" y="1841400"/>
            <a:ext cx="2127240" cy="11462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5" descr=""/>
          <p:cNvPicPr/>
          <p:nvPr/>
        </p:nvPicPr>
        <p:blipFill>
          <a:blip r:embed="rId3"/>
          <a:stretch/>
        </p:blipFill>
        <p:spPr>
          <a:xfrm>
            <a:off x="2146320" y="1957320"/>
            <a:ext cx="2846520" cy="112716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530440" y="2792520"/>
            <a:ext cx="2419560" cy="1109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7" descr=""/>
          <p:cNvPicPr/>
          <p:nvPr/>
        </p:nvPicPr>
        <p:blipFill>
          <a:blip r:embed="rId5"/>
          <a:stretch/>
        </p:blipFill>
        <p:spPr>
          <a:xfrm>
            <a:off x="2975040" y="3670200"/>
            <a:ext cx="2571840" cy="11462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8" descr=""/>
          <p:cNvPicPr/>
          <p:nvPr/>
        </p:nvPicPr>
        <p:blipFill>
          <a:blip r:embed="rId6"/>
          <a:stretch/>
        </p:blipFill>
        <p:spPr>
          <a:xfrm>
            <a:off x="3475080" y="4657680"/>
            <a:ext cx="22064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1511280" y="622440"/>
            <a:ext cx="6267600" cy="114588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4" descr=""/>
          <p:cNvPicPr/>
          <p:nvPr/>
        </p:nvPicPr>
        <p:blipFill>
          <a:blip r:embed="rId2"/>
          <a:stretch/>
        </p:blipFill>
        <p:spPr>
          <a:xfrm>
            <a:off x="2871720" y="2401920"/>
            <a:ext cx="3737160" cy="1116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5" descr=""/>
          <p:cNvPicPr/>
          <p:nvPr/>
        </p:nvPicPr>
        <p:blipFill>
          <a:blip r:embed="rId3"/>
          <a:stretch/>
        </p:blipFill>
        <p:spPr>
          <a:xfrm>
            <a:off x="2286000" y="4322880"/>
            <a:ext cx="47973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352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s chansons preferees sont “Not Afraid”, “When I’m Gone”, et “Savior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enem et Rise Against chantent nos chansons prefere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s styles de musique preferees sont rap et p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nos chansons preferees, nous entendons un message de col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 theme de nos chansons preferees est la col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e joue de la guitare, et j’aimerais jouer la batter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du rap, nous entendons le rythme de la vo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du rap, nous nous sentons exci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ntendons cette musique, nous sentons une sensation de pe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5" descr=""/>
          <p:cNvPicPr/>
          <p:nvPr/>
        </p:nvPicPr>
        <p:blipFill>
          <a:blip r:embed="rId1"/>
          <a:stretch/>
        </p:blipFill>
        <p:spPr>
          <a:xfrm>
            <a:off x="1006560" y="622440"/>
            <a:ext cx="6265800" cy="11458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1974960" y="2414520"/>
            <a:ext cx="4213080" cy="19382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" descr=""/>
          <p:cNvPicPr/>
          <p:nvPr/>
        </p:nvPicPr>
        <p:blipFill>
          <a:blip r:embed="rId3"/>
          <a:stretch/>
        </p:blipFill>
        <p:spPr>
          <a:xfrm>
            <a:off x="1908000" y="4705200"/>
            <a:ext cx="4797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49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nos chansons preferees, nous entendons un message de col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 theme de nos chansons preferees est la col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e joue de la guitare, et j’aimerais jouer la batter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du rap, nous entendons le rythme de la voix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du rap, nous nous sentons s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ntendons cette musique, nous imaginons quelque chose la doul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1116000" y="396720"/>
            <a:ext cx="7132680" cy="11401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4" descr=""/>
          <p:cNvPicPr/>
          <p:nvPr/>
        </p:nvPicPr>
        <p:blipFill>
          <a:blip r:embed="rId2"/>
          <a:stretch/>
        </p:blipFill>
        <p:spPr>
          <a:xfrm>
            <a:off x="2914560" y="2792520"/>
            <a:ext cx="3022560" cy="113328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5" descr=""/>
          <p:cNvPicPr/>
          <p:nvPr/>
        </p:nvPicPr>
        <p:blipFill>
          <a:blip r:embed="rId3"/>
          <a:stretch/>
        </p:blipFill>
        <p:spPr>
          <a:xfrm>
            <a:off x="1450800" y="4780080"/>
            <a:ext cx="63579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83808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nos chansons preferees, nous entendons un message de col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theme de nos chansons preferees est la col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joue de la guitare, et j’aimerais jouer la instrument elec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du pop, nous entendons le rythme des instru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du pop, nous nous sentons cal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ntendons cette musique, nous imaginons quelque chose a develop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2432160" y="2120760"/>
            <a:ext cx="37670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2:04Z</dcterms:created>
  <dc:creator>McDonald-O'Donnell, Dalton</dc:creator>
  <dc:description/>
  <dc:language>en-US</dc:language>
  <cp:lastModifiedBy> </cp:lastModifiedBy>
  <dcterms:modified xsi:type="dcterms:W3CDTF">2010-10-21T13:15:28Z</dcterms:modified>
  <cp:revision>11</cp:revision>
  <dc:subject/>
  <dc:title>Slide 1</dc:title>
</cp:coreProperties>
</file>